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706-65AF-463B-9207-18C2EFAB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B1C-19A2-4DD1-B33D-ADBB965F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19E62-CC64-4E3C-98AF-A80DAB46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87F64-0770-4F3D-A97B-83D89D5A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89DE0-9A65-460D-B507-0029D1B0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99CA2-9BBB-4B93-A76C-76B21B7A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B641B-A493-42CF-833D-9C7AE926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92960-85A7-42CB-8249-3A0C65AE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D8CC9-3A81-46A4-9D11-87AA03E0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B7375-EB52-4F97-9BAC-944439F0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0F3E6-0B9B-419D-B253-D9691831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7D77F-C923-46EE-8492-AFCD576F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68C-EAA3-4B57-A2DB-08455EEA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EC234-58B7-40E5-B623-94FE654A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F8C18-D62A-40B0-8944-5C6EB26B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D6AB8-BFAF-4E4B-BCEF-D8E6993D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B78C4-DC29-477E-863A-C81B9CDB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BD882-326E-4C90-BF8A-43A89ECA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95DF1-D264-4918-B458-268F8F83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8A8E2-17A8-4019-8EE7-C99012C3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31BD0-DDB2-43DF-A099-17B4A49D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3DF62-FC1B-4F31-8348-7208ABE0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95A88-F2E3-4C10-AEB6-CCDE6272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5F3-62F7-4F58-A4C6-C8F8A006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429DF-8088-4CA7-AB62-BF7EEEF1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A4836-77B0-4286-BB9E-E8B93011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A37D2-4C3F-4F4B-B02B-0AF8D515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C692C-DD8D-48B3-B368-C0DDE654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D24BC-08A6-4727-8B8C-17702B06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ABE86-93E5-4857-8E4E-AC2CB7E1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55C4E-63C8-4F65-840A-F9BC5A0D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BCD15-E81D-453F-85D2-1D4FE199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76CBD-6BC0-451B-ADE9-6C88066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69D30-0FD7-476A-A3F4-5DA9225F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A054-4A91-47A2-90FB-9BA6EAB0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20FE4-F05B-44DC-80C5-87F3D6EB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64068-8763-4E4B-B1A9-29C8FB73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569F2-125D-4681-8362-22048EF2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9F9CB-0012-48C7-89F7-F1CDB495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58EED-85B3-4F8F-9C2C-3563A837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7EB56-20B8-44E2-9EB0-4D9391EF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C9683-6B89-4575-A4C2-1C4F6AB8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E0F21-7BE8-4E67-A4D2-FA00F54E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C616A-3B19-4481-BCBB-EAB68B48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0A914-23B1-4509-B875-4396CB73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9B9D-AB23-4990-933F-B706D6F8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57E2F-6ADF-4FA0-8613-FD6870D8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EE6FF-9620-432F-81F2-AF4F7827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E3C2E-D191-4F6D-92AB-EE753DBC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FFCCB-F3CD-4A3E-A7D4-FF0ADF39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EDE41-628A-45AA-ADFC-2776BBD6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2613-877D-4552-9589-DCFB7F0B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3AA4-17AA-4FB1-92C0-FA794588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FE38-A1C7-4E63-933E-1FC47F07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7466-850E-4AEE-A9BE-BE400421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F17E-FBEB-4CAE-8A8F-35AA3AC3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47F-834B-425D-A69F-FE1511AB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6A68-B7CD-4209-840F-EF8CD859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0B67-5A65-400B-BF48-BC6F8D90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C109-AD4E-408E-89CC-3A89B186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08D4-8A65-41F6-A229-49921E3A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53D9-F331-4972-8744-9753DC8E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9068-C38D-4ACC-B1D5-CBC497A7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3532-11F4-44EE-A3FA-7C86D8A5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66F2-EAEA-40B5-81DA-08F5F346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1384-C04B-4584-84B7-9A0DE22F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C99D-863E-4AE2-BEA4-562620CA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835-7A69-403E-B2A7-EF3B742B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43C7-FA2D-4CCE-9A9C-E2FBA357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252A-A0A2-4B03-93F5-3DCF7131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FC66-5A1F-48D7-BED2-1216A393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E186-ED3C-4322-8503-C7517598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11BD-85DF-49E4-9FB4-BABB4EF0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A9987-5B83-42BE-85FF-E60BB318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CD60A-3B16-4878-B4A9-B2780D7E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966E0-DC1B-45C5-8E4C-E7E9B551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E0C9-BACC-441B-B1AD-8215BD8D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EADC5-41E7-4859-AA39-E379DBBE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3DA-8F22-4E7B-B041-1B519750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ADB3E-E8AD-4D5B-8A61-FA944A89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E93D8-E3CA-4E9E-B957-A4DD1DF0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C978-9740-4300-AF18-17236A2E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A7E75-F0E2-4EDE-A8C0-A5E4819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502EB-4DC3-45A1-A1B5-5B0FF19D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26C1A-23A8-44DB-AA84-862BDF5F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F63EB-A3BA-455E-8330-3531B8A2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AD589-5650-4BC4-933B-ADFC3ECC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83FCE-A8CA-4371-8894-EB4CED12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77EE7-F5D6-40D2-A9D2-DEA22690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534-77A4-4A50-ACBF-CE2E6D1E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48F21-0A4A-4DF9-AD22-4C9415EE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D5E7-DE32-4303-8654-223677A1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15AA5-9482-4ACB-9EE9-010AA598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E3987-5339-4C36-A3D9-4AB1BBC9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764CC-8FDC-4517-AA9B-C3A6C9C2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96289-A5F9-4FBF-B5A9-9A0BE1A8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11C66-9BAD-4725-B761-642E165D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67C8-5377-47FE-8A53-981ADA20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78FA8-5324-47D1-817A-7CBF0E20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7BF1D-FD75-4157-8BDD-EE9A1734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B43-97CD-4E8B-BDBF-48FE0BAA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ECF7-9420-4257-838C-2B2443F9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ABD18-55E6-4162-BB64-0344B416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27F96-F355-4FD6-8D45-BC9ED391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C881D-8179-4654-8425-84CECA2C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D619C-7F0F-4475-A894-2B3E3793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D7620-F4C0-41FF-BDE1-B336CFE7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42941-6B7D-4E73-90A0-B4FE70DD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65FA5-92AE-4D84-9643-8416AB12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A6D0D-B1ED-4084-B19F-EF9AAD72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91FE7-D233-4D05-AFF6-978A072D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BF2-08A0-408C-9BBC-DEE48063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5BDBC-7D1C-4354-91F0-FD7CEE08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8DD30-A258-47C9-9540-D8446A14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157EE-40B7-41EF-B803-7BF022E9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24A37-41F3-4150-8C27-A1D194A6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8DB18-DE99-45CC-A952-7DCF3510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4B952-386C-4CFD-AC1B-D17522BD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FC6EE-3B66-40B5-8BB9-CA826893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D5F5B-99CF-49D3-9FAC-CCEAA593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933A5-DC5D-4958-B084-A6DC479F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3E908-62DC-4D93-889D-EAC75D95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DBE-8F4F-4038-8278-7B42B364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4191D-8531-44AB-9678-98E353C4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92A5D-FE9E-40EB-81DC-FDF8C944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D0851-98C9-4A69-8448-2AABAE3E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59240-1FAE-4CD9-B21E-14CE62EA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10352-0C3B-463D-840F-4AB35A22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F3932-161E-4D6C-B7BD-114F40CA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4890F-A211-4971-B62C-AB2C37AF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B5C87-8AD7-418C-B8D2-78B5C147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89562-13C3-43A0-86CD-7E709B52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C2C6E-F256-456E-B834-DAFB1413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ED6-0AE6-4A96-AFCE-0ACCBA47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F9837-450A-4289-949E-836069D4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620F7-8E0F-4514-B84F-80D8BC66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EDEFF-5242-41F9-94E7-2AAAC69B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12930-BAB4-49DC-9FEB-2828DC88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6EDEB-2712-454F-8A8A-2393A37A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217F2-04A7-48BF-AC82-4CA1D43A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2945A-BE93-4178-BA88-A8E95FCB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85A68-1DF5-49E7-BFDF-4E381214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6D81C-D31D-4C47-AEE6-560443AA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19A00-1591-432A-8022-B246C5A0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389B-93A1-4157-A931-6017FD2EF0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B1AA-35D5-4409-9D4F-E19E8F74EF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D7CA-B87A-41F2-AE41-DA33DF2404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2546-FC77-447A-B92F-87A3A0B8AC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4DAD-F7C3-4A11-8F19-6C1BBC77D1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064A-9E25-43EB-8C01-734D4FA9A52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34B9-4AB5-4239-A6B1-9EFFAF87B6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7085-2BF8-44C6-8399-649EA16861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51AE-9F08-45C5-9FA9-AA9F892E660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0F9E-4B88-4CBD-8721-6A978170861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38B6-AC10-4337-B14C-F7F9B8CE3B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0735-7AB5-45CA-9D93-0B0163E7F7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90 Ja viem, že Spasite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ži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viem, že Spasiteľ môj ži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bývať budem večne ra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príde smr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hrob ma skry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uzriem slávu rajský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šetkých búrkach živ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 potešuje istota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príde, sľub svoj nezm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lávou verných od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život Ježišovi dá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a mňa krvou zaplati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neho pomoc očaká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dá mi k víťazstvu dosť sí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šetkých búrkach živ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 potešuje istota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príde, sľub svoj nezm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lávou verných od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viem, Pán Ježiš príde zas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znamenia to hlásaj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tých sa zjaví v plnej krás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naňho verne čak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šetkých búrkach živ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 potešuje istota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príde, sľub svoj nezm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lávou verných odmení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6:02:28Z</dcterms:modified>
  <cp:revision>21</cp:revision>
  <dc:subject/>
  <dc:title>Je veľký náš Pán, on slávy je Kráľ Nech do všetkých strán  spev vrúcnych znie chvál.</dc:title>
</cp:coreProperties>
</file>